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A802-F57D-4AA5-BB8F-E737A90975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ЕДМЕТУ «ТЕХНОЛОГ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ФГ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0CB6-A53A-4597-B521-9B511A3A61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роцессе обучения технологии учащие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знаком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едметами потребления, потребительной стоимостью продукта 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териальным изделием или нематериальной услугой, дизайном, проектом, конструк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механизацией труда и автоматизацией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информационными технологиями в производст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фере услуг; перспективными технолог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функциональными и стоимостными характеристиками предметов тру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ехнологий; себестоимостью продукции; экономией сырья, энергии,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оизводительностью труда; реализацией продук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рекламой, ценой, налогом, доходом и прибыл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принимательской деятельностью; бюджетом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экологичность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логическими требованиями к технологиям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стройством, сборкой, управлением и обслуживанием доступных и посильных технико-технологических средст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онятием о научной организации 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да, средствах и методах обеспечения безопасности тру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культурой труда; технологической дисципли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этикой общения на производ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667B-C631-43AA-96E8-3D02BF512A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владеют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созида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образующей, творческой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чтения и состав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ческ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мерения параметров технологического процесса и продукта труда, выбора, моделирования, конструирования, проектирования объекта труда и технологии с использованием компью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ми методами и средствами преобразования и использования материал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нергии и информации, объектов социальной и природн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распознавать и оценивать свойств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ционных и природных подело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ориентировать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значении, применении ру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испособл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и, организации и планирован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овой деятельности на рабочем мест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соблюдения культур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ами организации рабочего ме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соотносить с личными потребностями и особенностями требования, предъявляемые различными массовыми професс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дготовке и личным качества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18EE-B14B-4121-A83A-248A4962D4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ие разделы програм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и исследовательской и опытнической деятель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овременное производство и профессиональное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DC5F-5875-4D1E-BD34-3FF98CB549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предмета «Технология» в базисном учебном (образовательном) пл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 «Технология» является необходимым компонентом общего образования школьников. Его содержание предоставляет молодым людям возможность бесконфликтно войти в мир искусственной, созданной людьми среды техники и технологий, которая называется техносферой и является главной составляющей окружающей человека действи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858E-68B0-4336-BDED-7A2E5275D1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я» в базисном учебном пл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70 учебных час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бязательного изучения курса «Техноло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ом числе: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5 и 6 классах — по 68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ч, из расчета 2 ч в неделю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7 классе — 34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, из расчета 1 ч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е врем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бучения технологии может быть выделе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 счет резерва времен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базисном учебном (образовательном) пл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нят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8 и 9 класса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гут быть организованы вне обязательной учебной сетки часо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 внеурочное время как дополнительное образование во второй половине д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FFC0-A426-408D-A7DC-8CFEB781D4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ностные ориентиры содержания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владе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овыми и технологическими знаниями и умениям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еобразованию и использованию материалов, энергии, информации, необходимыми для создания продуктов труда в соответствии с их предполагаемыми функциональными и эстетическими свой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ями ориентироваться в мире професс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ценивать свои профессиональные интересы и склонности к изучаемым видам трудовой деятельности, составлять жизненные и профессиональные пл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использова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ных ру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 и приб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ланирования бюджета домашнего хозяйства; культуры труда, уважительного отношения к труду и результата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AF16-2BFE-471E-A3E4-50B448D92D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ат  возмож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знакоми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основными технологическими понятиям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характерист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азначением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хнологическими свойствами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назначением и устройст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мых ру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способлений, машин и обору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идами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емами и последовательностью выполнения технологических операций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лиянием различных технологий обработки материалов и получения продукции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офессиями и специальност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вязанными с обработкой материалов, созданием изделий из них, получением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 значением здорового питания для сохранения своего здоровь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B832-D37A-42FD-8749-10AFFCABD9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ит возможност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ыполнять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трудовые операции и работ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циональ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зовывать рабочее мес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ь необходимую информац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зличных источни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трукторскую и технологическую д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кументаци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ставлять последовательность выполн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их операций для изготовления изделия или 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ирать сырье, материал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ищевые продукты, инструменты и оборудование для 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труировать, моделировать, изготавлива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ел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заданным критериям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хнологические операц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использованием ручных инструментов, приспособлений, машин, оборудования, электроприб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ать безопасные приемы труд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ила пользования ручными инструментами, машинами и электрооборудов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ществл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упными мерительными средствами, измерительными приборами и визуаль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качест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авливаемого изделия (дета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ь и устра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ущенные д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фек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одить разработку творческого проект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ления изделия или получения продукта с использованием освоенных технологий и доступ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ть работ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учетом имеющихся ресурсов и  усло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пределять работ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коллектив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6C83-CC3A-4BE5-9D16-CBC8AA6910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приобретенны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нания и умения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нимания ценности материальной культуры для жиз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звития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я эстетическо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я творческих способност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остижения высоких результатов преобразующей творческой деятельност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ко-технолог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ведений из разнообразных источн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зации индивидуальной и коллективной трудов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готовления издел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оративно-прикладного искусства для оформления интерь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ления ил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монта издел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различных материалов с использованием ручных инструментов, приспособлений, машин, обору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я качества выполняемых раб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менением мерительных, контрольных и разметочных инстр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я безопасных приемов тру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ил электробезопасности, санитари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ки затрат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х для создания объекта ил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строения планов профессионального образования и трудоу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712B-8011-4A69-A627-FE5FE65949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изучения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важнейших задач второй ступени пропедевтического технологического образования является подготовка обучающихся к осознанному и ответственному выбору жизненного и профессионального пу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ающиеся должны научиться самостоятельно формулировать цели и определять пути их достижения, использовать приобретенный в школе опыт деятельности в реальной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 рамками учеб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277A-335C-4812-B9BC-F061646AD9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ЫЙ ГОСУДАРСТВЕННЫЙ ОБРАЗОВАТЕЛЬНЫЙ СТАНДАР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тверж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ом Министерства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уки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«17»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кабр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2010 г. №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8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1E88-912D-46E7-86E6-DF76A81A77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технологии в основной школе обеспечивае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результа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чностных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апредме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ме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C42A-9EAC-4E0A-AF8D-18B8B568A3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познавательных интересов и актив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области предметной технологи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ражение желания учиться и трудиться в промышленном производств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довлетворения текущих и перспективных потреб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е трудолюбия и ответственности за кач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вла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ановками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ми и правилами научной организ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ого и физическ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мственных и физ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ностей для труда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сферах с позиций будущей социализации и стратиф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овлени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пределения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бранной сфер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удущ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нальн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разовательной и профессиональ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рь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знание необходим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щественно полезн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условия безопасной и эффективной соци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режное отнош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природным и хозяйственны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с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ь к рациональному ведению домашнего хозя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технико-технологического и экономического мыш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рганизации 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ценка готовности к предпринимательск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фере техническ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A868-98E2-425C-BDE6-106E8596E2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апредметными результатами 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лгоритмизированное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а познавательно-трудовой д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 адекватны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мся организационным и материально-техническим условия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ов реш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или трудов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и на основе заданных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бинирование известных алгоритм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го и технологического творчеств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ситуациях, не предполагающих стандартного примен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го из н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инновационного подхода к ре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нию учебных и практ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моделирования изделия или технологическ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иск новых решений возникш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й или организационной п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бл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ая организация и выполн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ворческих раб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зданию технических издел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иртуальное и натурное моделирование технических объек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ехн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пример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аргументов, формулирование вывод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основанию технико-технологического и организационного решения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ражение в устной или письменной форме результатов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явление потребностей, проектирование и создание объек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для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вательных и коммуникатив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 различных источников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ключая энциклопедии, словари, интернет-ресурсы и другие базы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 дополнительной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ектировании и создании объектов, имеющих личностную или общественно значимую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и координац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вместной познавательно-трудовой деятельности с другими ее 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вклада своей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шение общих задач коллект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познавательно-трудовой деятельности с точки зрения нравственных, правовых нор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эстетических ценностей по принятым в обществе и коллективе требованиям и принцип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агностика результатов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нятым критериям и показа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основание путей и средств устранения ошиб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разрешения противоречий в выполняемых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культуры труда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ии с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безопасности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озидательн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BB3B-76BD-43F6-B6A3-87AF858F0E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познавательн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циональное использ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ческ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проектирования и создания объе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ка технологических свойств сыр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териалов и областей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иентация в имеющихся и возможных средствах и технология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я объе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алгоритмами и методами реш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х и технико-технологически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ассификация видов и назначения методов получения и преобразования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энергии, информации, объектов живой природы и социальной среды, а также соответствующих технологий промышлен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познавание видов, назначения материалов, инструмен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борудования, применяемого в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кодами и методами чт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пособами графического представления технической, технологической и инструктив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 общенаучных зн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предметам естественно-математического цикла в процессе подготовки и осуществления технологических процессов для обоснования и аргументации рациональности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способами научной организации 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формами деятельности, соответствующими культуре труда и технологической культуре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 элементов прикладной экономи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сновании технологий и про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41DE-52C3-41A4-AED3-A5B305A152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трудовой сфере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ние технологического процесс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цесс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материал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учетом характера объекта труда и техн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едение необходимых опытов и исследова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одборе сырья, материалов и проектировании объект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инструментов и оборудов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учетом требований технологии и материально-энергетически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ектирование последовательности операц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составление операционной карты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е технологических операций с соблюдением установле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рм, стандартов и ограни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безопасности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ожарной безопасности, правил санитари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трудовой и технологической дисципл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основание критерие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оказателей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чест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ежуточных и коне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ов тр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ор и использование кодов, средств и видов представления технической и технологической информации и знаковых систем в соответствии с коммуникативной задачей, сферой и ситуацией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и применение инстру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в, приборов и оборудования в технологических процессах с учетом областей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промежуточных и конечных результатов тр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 по установленным критериям и показателям с использованием контрольных и измерительных инстр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явление допущенных ошибо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роцессе труда и обоснование способов их ис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ирование результатов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проек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чет себестоимости продукта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ная экономическая оцен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можной прибыли с учетом сложившейся ситуаци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9F2B-F369-4CE1-938D-D175997340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мотивационной сфе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способности и готовности к труд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кретной предме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способ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и к предприниматель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профиля технологической подготовки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х классах полной средней школы или профессии в учреждениях начального профессионального или среднего специального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раженная готовность к тру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фере материального производства или сфере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гласование своих потребностей и требований с потребностями и требованиями других участн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о-трудов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знание ответственности за качество резуль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личие экологической культу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сновании объекта труда и выполнении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ремление к экономии и бережлив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ходовании времени, материалов, денежных средств 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C3C2-8237-4555-9BA1-CB05531C9F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эстетическ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зайнерское проектирование 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я или рациональная эстетическая организац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делирование художественного оформ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а труда и оптимальное планирование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аботка варианта рекла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енного объекта или результа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стетическое и рациональное оснащение рабочего мес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требований эргономики и научной организаци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циональный выбор рабочего костю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прятное содержание рабочей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270C-7E0D-4146-A532-5B80E1A561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коммуникативн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 рабочей группы для выполнения про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общности интересов и возможностей будущих членов трудового коллект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знаковых систем и средств для кодирования и оформления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коммун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ммуникационн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учетом требований действующих нормативов и стандар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бличная презентация и защита про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лия, продукта труда ил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аботка вариантов рекламных образ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оганов и лейб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требительская 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рительного ряда действующей рекла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21C7-9D71-4FEF-AA5C-7204ED769F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физиолого-психологическ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е моторики и координации движений 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ри работе с ручными инструментами и выполнении операций с помощью машин и мех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необходимой точности движ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различных технологических опер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требуемой величины усил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кладываемого к инструменту, с учетом технологических требо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четание образного и логического мыш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проект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31C6-A874-4DCC-B37D-55B4D32704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Arial Black"/>
              </a:rPr>
              <a:t>standart.edu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C489-C07C-4DB9-AC73-16DEC31CDF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даментальное  ядро содержания общего образова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ования к результатам освоения основной общеобразовательной программы основного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 государственный образовательный стандарт основного общего образования втор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CE8C-8525-41B9-A32E-1B80527EE3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получить пред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цел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й стратегии обучения, воспитания и развития учащих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ет тематические и сюжетные линии кур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ет примерное распределение учебных часов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последовательности изучения т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и учебного процес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растных особенностей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C663-F914-4D13-A864-9EEC88258B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 программы «Технология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о-семантическое нормирование учеб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изационно-плановое построение содерж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методическое руковод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02F3-C1F9-448F-ACDF-238697A10B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ы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яснительная зап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е содержание, состоящее из разделов и 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ое тематическое план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 по оснащению учеб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CD27-BFF3-44BB-87B7-5EB1157DC0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изучения предмета «Технолог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ая цель  - формирование представлений о составляющих техносферы, о современном производстве и о распространенных в нем технолог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89A0-7740-4DAA-BE23-29C42F1167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учебного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Индустриальные технологии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и ведения дом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ельскохозяйственные технологии» (агротехнологии, технологии животноводст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4EB0-8895-44DA-8FFD-ECF1C9F9C8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возные образовательные ли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ая культура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ространенные технологии современ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, эргономика и эстетик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ы черчения, графики, дизай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менты домашней и прикладной экономики,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миром профессий, выбор учащимися жизненных, профессиональных пл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технологических процессов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технической, творческой, проек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, перспективы и социальные последствия развития технологии и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9F55-2F2B-485D-8416-DE45FA7266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6395-D192-4023-A4F5-BBAA3019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786A-D698-4266-8B90-3925BC55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5C6A-C29D-49F2-8BC6-99B21F7C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74A-C59B-496C-B286-ECC9EBEF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4B13-41FF-4235-AD6B-9DA1AAB3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704E-B147-4A99-A1F6-6150C62A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41E6-F461-47CC-A54B-872FA459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434C-1F54-48EF-8833-51E639B9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24C2-AF43-4325-B897-DEC75FBC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58C3-8513-44D8-83C1-392573A0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197E-6C0D-4863-964C-A2BD4A76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D749-7F65-4F1F-9E94-5F08F3CB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6685-57A4-4C96-B980-982F13D6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FFC0-61CF-451E-938A-D218AC1B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0DF8-4232-4DBF-861A-F2B92E5F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EF13-0F50-46C9-B387-994DF8E2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43C7-AF64-41B3-B591-D5983468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79CD6-B4F4-4F9D-BB5A-9B1D25D3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1898F-30AA-4D16-85CA-C20C1F49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DF3E9-6819-4AC1-AEA3-F57E4D5F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A73F5-1E46-4EE5-AB10-A873B4DE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FB98E-4D81-48E6-B384-8FEDCDF2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99E-27DF-49C7-96E9-6CB71452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87608-EAF2-47E1-9C32-AB07EF3B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14CB0-0D1E-4DD3-95A0-7F24E77C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2D9A-EEDE-4476-A2B7-B485F505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20716-7800-42F7-973D-630FA5A5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E8E90-3EB4-4ADF-8993-BCC7318C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6AE46-230B-41C7-8EB3-740D3F74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144C5-09C0-45D2-87F3-D2E7CB10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C37A5-C606-4DCD-8C0C-A9AEB21D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00FE1-CDA1-4F79-8D13-39458145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597C5-6880-4EF2-BB71-91D620A3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9F9-A4E2-4872-B948-CD525801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6D119-F3FC-4263-83D2-A8D9C942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45299-730A-44FB-9588-29EFD712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EC3FA-F5D9-45EA-879B-6DFC98D7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EAE02-F6EB-4038-8B7F-9AFAC756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A1181-6196-4F69-8F68-A50FE094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C938C-F66D-432F-8EF7-8AF059A2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0E121-DFA9-464F-BCC9-0576B485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117AA-FE45-473E-A449-FB9D1C05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55F5B-B282-4B74-8F28-74B1DB6A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1C3E-8C47-492B-9261-1ADF0530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F3E-CA20-4F18-81E7-68141519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D41-D3D7-4B13-8824-F24B2206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B34-794B-4F95-871A-6271C597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2C1-2E6C-4031-8474-B73741E8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9A56-786A-40D9-9602-57EB607985A8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0B87-A71B-467D-AEBD-BEA50311E3B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4CCE-7794-4599-AE92-8ED04DCD9F0B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AD13-B197-428F-A319-8DBE299D79A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79AF-67C4-4497-9D48-4C3D713FD12D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1234-12A7-4FA8-91BA-687B485D0FA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EF81-C5B2-4D4C-A573-CD70373257BE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8666-35DA-46F6-B13F-EBC7DFC2B02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23800" y="500040"/>
            <a:ext cx="8613720" cy="2517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42960" y="3571920"/>
            <a:ext cx="85010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ИМЕРНАЯ ПРОГРАММ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 ПРЕДМЕТУ «ТЕХНОЛОГИЯ»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 ОСНОВЕ ФГОС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Содержимое 3" descr="программа  тех.GIF"/>
          <p:cNvPicPr/>
          <p:nvPr/>
        </p:nvPicPr>
        <p:blipFill>
          <a:blip r:embed="rId2"/>
          <a:stretch/>
        </p:blipFill>
        <p:spPr>
          <a:xfrm>
            <a:off x="0" y="2357280"/>
            <a:ext cx="2714760" cy="40975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В процессе обучения технологии учащиеся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познакомятся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редметами потребления, потребительной стоимостью продукта тру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атериальным изделием или нематериальной услугой, дизайном, проектом, конструкцие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механизацией труда и автоматизацией производств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технологической культурой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информационными технологиями в производстве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и сфере услуг; перспективными технологиям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функциональными и стоимостными характеристиками предметов труда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технологий; себестоимостью продукции; экономией сырья, энергии,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роизводительностью труда; реализацией продук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рекламой, ценой, налогом, доходом и прибылью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едпринимательской деятельностью; бюджетом семь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экологичностью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ехнологий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экологическими требованиями к технологиям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устройством, сборкой, управлением и обслуживанием доступных и посильных технико-технологических средств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онятием о научной организации т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уда, средствах и методах обеспечения безопасности труда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культурой труда; технологической дисциплино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этикой общения на производств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4617b"/>
                </a:solidFill>
                <a:uFillTx/>
                <a:latin typeface="Constantia"/>
              </a:rPr>
              <a:t>овладеют</a:t>
            </a:r>
            <a:r>
              <a:rPr b="1" lang="ru-RU" sz="5000" spc="-1" strike="noStrike" u="sng">
                <a:solidFill>
                  <a:srgbClr val="04617b"/>
                </a:solidFill>
                <a:uFillTx/>
                <a:latin typeface="Constantia"/>
              </a:rPr>
              <a:t>: 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созидательной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преобразующей, творческой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чтения и составлен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ехнической и технологическо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аци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измерения параметров технологического процесса и продукта труда, выбора, моделирования, конструирования, проектирования объекта труда и технологии с использованием компьютер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новными методами и средствами преобразования и использования материалов,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энергии и информации, объектов социальной и природной сред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распознавать и оценивать свойств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нструкционных и природных подело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материалов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ориент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назначении, применении ру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риспособлений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готовки, организации и планировани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трудовой деятельности на рабочем мест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 соблюдения культуры труд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выками организации рабочего ме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соотносить с личными потребностями и особенностями требования, предъявляемые различными массовыми профессиям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подготовке и личным качествам челове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ие разделы программы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Технологии исследовательской и опытнической деятельности»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Современное производство и профессиональное образование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Место предмета «Технология» в базисном учебном (образовательном) плане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2928600"/>
            <a:ext cx="91440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едмет «Технология» является необходимым компонентом общего образования школьников. Его содержание предоставляет молодым людям возможность бесконфликтно войти в мир искусственной, созданной людьми среды техники и технологий, которая называется техносферой и является главной составляющей окружающей человека действитель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«Технология» в базисном учебном плане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170 учебных часов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обязательного изучения курса «Технология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том числе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5 и 6 классах — по 68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ч, из расчета 2 ч в неделю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7 классе — 34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, из расчета 1 ч в недел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ополнительное врем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обучения технологии может быть выделен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за счет резерва времен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базисном учебном (образовательном) пла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няти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8 и 9 классах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гут быть организованы вне обязательной учебной сетки часо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о внеурочное время как дополнительное образование во второй половине дн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Ценностные ориентиры содержания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чащиеся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владеют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трудовыми и технологическими знаниями и умения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 преобразованию и использованию материалов, энергии, информации, необходимыми для создания продуктов труда в соответствии с их предполагаемыми функциональными и эстетическими свойства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умениями ориентироваться в мире професс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оценивать свои профессиональные интересы и склонности к изучаемым видам трудовой деятельности, составлять жизненные и профессиональные планы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использова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пространенных ручных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 и прибор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планирования бюджета домашнего хозяйства; культуры труда, уважительного отношения к труду и результатам труд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олучат  возможность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 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познакомиться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500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основными технологическими понятия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 характеристика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назначением и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технологическими свойствами материал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назначением и устройством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меняемых ручных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приспособлений, машин и оборудовани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видами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приемами и последовательностью выполнения технологических операций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лиянием различных технологий обработки материалов и получения продукции на окружающую среду и здоровье человек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профессиями и специальностями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связанными с обработкой материалов, созданием изделий из них, получением продукци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о значением здорового питания для сохранения своего здоровья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Получит возможность </a:t>
            </a:r>
            <a:r>
              <a:rPr b="1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выполнять</a:t>
            </a:r>
            <a:r>
              <a:rPr b="0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 </a:t>
            </a:r>
            <a:r>
              <a:rPr b="1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трудовые операции и работы</a:t>
            </a: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934640"/>
            <a:ext cx="8472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рациональ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овывать рабочее место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ходить необходимую информацию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различных источника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онструкторскую и технологическую 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кументацию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ставлять последовательность выполнения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ехнологических операций для изготовления изделия или выполнения рабо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ыбирать сырье, материал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, пищевые продукты, инструменты и оборудование для выполнения рабо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нструировать, моделировать, изготавлива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дел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ыпол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о заданным критериям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технологические операции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использованием ручных инструментов, приспособлений, машин, оборудования, электроприбор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блюдать безопасные приемы труд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 правила пользования ручными инструментами, машинами и электрооборудованием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уществл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ступными мерительными средствами, измерительными приборами и визуаль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ь качеств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готавливаемого изделия (детали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ходить и устра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пущенные 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ефект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оводить разработку творческого проект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готовления изделия или получения продукта с использованием освоенных технологий и доступных материал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ть работы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учетом имеющихся ресурсов и  услови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пределять работу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и коллективной деятель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Использовать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  приобретенные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знания и умения</a:t>
            </a:r>
            <a:r>
              <a:rPr b="0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дл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нимания ценности материальной культуры для жизн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развития челове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я эстетической среды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ыт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азвития творческих способносте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достижения высоких результатов преобразующей творческой деятельности челове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лучен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ехнико-технологически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ведений из разнообразных источник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формац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ации индивидуальной и коллективной трудов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изготовления издели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екоративно-прикладного искусства для оформления интерьер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готовления ил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емонта издели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 различных материалов с использованием ручных инструментов, приспособлений, машин, оборудова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я качества выполняемых работ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 применением мерительных, контрольных и разметочных инструмен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полнения безопасных приемов труд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равил электробезопасности, санитарии и гигиен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ки затрат,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обходимых для создания объекта или услуг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строения планов профессионального образования и трудоустройст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Результаты изучения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1935000"/>
            <a:ext cx="91440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ной из важнейших задач второй ступени пропедевтического технологического образования является подготовка обучающихся к осознанному и ответственному выбору жизненного и профессионального пу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зультат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обучающиеся должны научиться самостоятельно формулировать цели и определять пути их достижения, использовать приобретенный в школе опыт деятельности в реальной жизн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за рамками учебного проце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686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ФЕДЕРАЛЬНЫЙ ГОСУДАРСТВЕННЫЙ ОБРАЗОВАТЕЛЬНЫЙ СТАНДАРТ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ОСНОВНОГО ОБЩЕГО ОБРАЗОВАНИЯ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4000320"/>
            <a:ext cx="8229600" cy="23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твержд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казом Министерства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 науки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 «17»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екабря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2010 г. №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189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Изучение технологии в основной школе обеспечивает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достижение результатов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371448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Личностных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Метапредметных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редметных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Личностные результаты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42560" y="1213920"/>
            <a:ext cx="90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познавательных интересов и активност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данной области предметной технолог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ыражение желания учиться и трудиться в промышленном производстве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удовлетворения текущих и перспективных потребност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трудолюбия и ответственности за качество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вое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влад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становками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нормами и правилами научной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мственного и физическ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ц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мственных и физически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пособностей для труда в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личных сферах с позиций будущей социализации и стратифик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ановлени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пределения в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ыбранной сфер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удуще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фессиональн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разовательной и профессионально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карьер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сознание необходим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щественно полезн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ак условия безопасной и эффективной социализ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ережное отнош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 природным и хозяйственным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есурса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готовность к рациональному ведению домашнего хозяйств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технико-технологического и экономического мышления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организации свое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ценка готовности к предпринимательск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 сфере технического тру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Метапредметными результатами 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7146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алгоритмизированное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оцесса познавательно-трудовой д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пределение адекватных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меющимся организационным и материально-техническим условия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пособов реш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учебной или трудов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и на основе заданных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комбинирование известных алгоритм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хнического и технологического творчеств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 ситуациях, не предполагающих стандартного примен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дного из ни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инновационного подхода к реш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ению учебных и практ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процессе моделирования изделия или технологического процесс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оиск новых решений возникшей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хнической или организационной п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роблемы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амостоятельная организация и выполнение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зли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творческих работ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созданию технических изделий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иртуальное и натурное моделирование технических объект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техн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ведение пример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одбор аргументов, формулирование вывод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обоснованию технико-технологического и организационного решения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тражение в устной или письменной форме результатов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ыявление потребностей, проектирование и создание объект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имеющих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ыбор для решения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познавательных и коммуникатив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 различных источников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включая энциклопедии, словари, интернет-ресурсы и другие базы данны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использование дополнительной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 проектировании и создании объектов, имеющих личностную или общественно значимую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гласование и координац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вместной познавательно-трудовой деятельности с другими ее 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бъективн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вклада своей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решение общих задач коллектив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познавательно-трудовой деятельности с точки зрения нравственных, правовых норм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эстетических ценностей по принятым в обществе и коллективе требованиям и принципа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диагностика результатов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принятым критериям и показателя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боснование путей и средств устранения ошибок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или разрешения противоречий в выполняемых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культуры труда 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ответствии с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безопасности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созидательного труд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 познавательной сфере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циональное использование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чебной 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дополнительно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технической и технологическо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для проектирования и создания объектов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ценка технологических свойств сырья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атериалов и областей их применен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риентация в имеющихся и возможных средствах и технологиях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здания объектов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алгоритмами и методами решен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ационных и технико-технологических задач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лассификация видов и назначения методов получения и преобразования материалов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энергии, информации, объектов живой природы и социальной среды, а также соответствующих технологий промышленного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познавание видов, назначения материалов, инструментов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оборудования, применяемого в технологических процесса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кодами и методами чтен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способами графического представления технической, технологической и инструктивно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ение общенаучных знани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по предметам естественно-математического цикла в процессе подготовки и осуществления технологических процессов для обоснования и аргументации рациональности деятель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способами научной организации тру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формами деятельности, соответствующими культуре труда и технологической культуре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ение элементов прикладной экономики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и обосновании технологий и проект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 трудовой сфере: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ние технологического процесса и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цесса тру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материалов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с учетом характера объекта труда и технологи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оведение необходимых опытов и исследований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и подборе сырья, материалов и проектировании объекта тру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инструментов и оборудования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с учетом требований технологии и материально-энергетических ресурс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оектирование последовательности операций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 составление операционной карты работ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ыполнение технологических операций с соблюдением установленных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норм, стандартов и ограничений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безопасности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, пожарной безопасности, правил санитарии и гигиены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трудовой и технологической дисциплины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обоснование критериев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 показателе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качества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межуточных и конечных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результатов тру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ыбор и использование кодов, средств и видов представления технической и технологической информации и знаковых систем в соответствии с коммуникативной задачей, сферой и ситуацией общ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и применение инструмен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тов, приборов и оборудования в технологических процессах с учетом областей их примен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ь промежуточных и конечных результатов тру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да по установленным критериям и показателям с использованием контрольных и измерительных инструмент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ыявление допущенных ошибок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в процессе труда и обоснование способов их исправл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ирование результатов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и проектной деятельност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расчет себестоимости продукта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имерная экономическая оценка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озможной прибыли с учетом сложившейся ситуации на рынке товаров и услу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934640"/>
            <a:ext cx="91440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 мотивационной сфер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способности и готовности к труду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конкретной предметн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способн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готовности к предпринимательск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бор профиля технологической подготовки 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арших классах полной средней школы или профессии в учреждениях начального профессионального или среднего специального обуче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раженная готовность к труду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 сфере материального производства или сфере услуг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огласование своих потребностей и требований с потребностями и требованиями других участник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знавательно-трудов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ознание ответственности за качество резуль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ов труд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личие экологической культуры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 обосновании объекта труда и выполнении рабо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тремление к экономии и бережлив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расходовании времени, материалов, денежных средств и труд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В эстетической сфер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дизайнерское проектирование из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елия или рациональная эстетическая организация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моделирование художественного оформле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бъекта труда и оптимальное планирование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разработка варианта рекламы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ыполненного объекта или результатов тру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эстетическое и рациональное оснащение рабочего места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учетом требований эргономики и научной организации тру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рациональный выбор рабочего костюма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 опрятное содержание рабочей одежд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 коммуникативной сфер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е рабочей группы для выполнения проек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 учетом общности интересов и возможностей будущих членов трудового коллекти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ыбор знаковых систем и средств для кодирования и оформления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процессе коммуник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формл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оммуникационной и технологическо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аци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 учетом требований действующих нормативов и стандарт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убличная презентация и защита проек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зделия, продукта труда или услуг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азработка вариантов рекламных образов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логанов и лейбл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отребительская оц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зрительного ряда действующей реклам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физиолого-психологической сфер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моторики и координации движений р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при работе с ручными инструментами и выполнении операций с помощью машин и механизм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остижение необходимой точности движений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выполнении различных технологических операц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требуемой величины усили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рикладываемого к инструменту, с учетом технологических требован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четание образного и логического мышлен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процессе проектной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Untitled-3"/>
          <p:cNvPicPr/>
          <p:nvPr/>
        </p:nvPicPr>
        <p:blipFill>
          <a:blip r:embed="rId1"/>
          <a:srcRect l="14455" t="0" r="14428" b="0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0033"/>
                </a:solidFill>
                <a:latin typeface="Arial Black"/>
              </a:rPr>
              <a:t>standart.edu.ru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728676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ая характеристика программы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785600"/>
            <a:ext cx="5929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ундаментальное  ядро содержания общего образования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ребования к результатам освоения основной общеобразовательной программы основного общего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едеральный  государственный образовательный стандарт основного общего образования второго покол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ФГОС НО"/>
          <p:cNvPicPr/>
          <p:nvPr/>
        </p:nvPicPr>
        <p:blipFill>
          <a:blip r:embed="rId1"/>
          <a:stretch/>
        </p:blipFill>
        <p:spPr>
          <a:xfrm>
            <a:off x="5786280" y="1143000"/>
            <a:ext cx="2136960" cy="3309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b-41-0139-01"/>
          <p:cNvPicPr/>
          <p:nvPr/>
        </p:nvPicPr>
        <p:blipFill>
          <a:blip r:embed="rId2"/>
          <a:stretch/>
        </p:blipFill>
        <p:spPr>
          <a:xfrm>
            <a:off x="6929280" y="2071800"/>
            <a:ext cx="1928880" cy="284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Содержимое 3" descr="программа  тех.GIF"/>
          <p:cNvPicPr/>
          <p:nvPr/>
        </p:nvPicPr>
        <p:blipFill>
          <a:blip r:embed="rId3"/>
          <a:stretch/>
        </p:blipFill>
        <p:spPr>
          <a:xfrm>
            <a:off x="6286680" y="3714840"/>
            <a:ext cx="2071440" cy="3127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озволяет получить представление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 целях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держани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ей стратегии обучения, воспитания и развития учащихся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ет тематические и сюжетные линии кур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ает примерное распределение учебных часов,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ариант последовательности изучения тем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огики учебного процес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зрастных особенностей учащих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Функции программы «Технология»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нформационно-семантическое нормирование учебного процесс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рганизационно-плановое построение содержа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еметодическое руководств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Разделы программы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яснительная запис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ое содержание, состоящее из разделов и те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мерное тематическое планиро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екомендации по оснащению учебного проце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Цели изучения предмета «Технология» 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ая цель  - формирование представлений о составляющих техносферы, о современном производстве и о распространенных в нем технологи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ая характеристика учебного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Направления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Индустриальные технологии»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Технологии ведения дома»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Сельскохозяйственные технологии» (агротехнологии, технологии животноводств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Сквозные образовательные линии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ехнологическая культура произво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спространенные технологии современного произво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ультура, эргономика и эстетика труд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сновы черчения, графики, дизайн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лементы домашней и прикладной экономики, предприниматель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накомство с миром профессий, выбор учащимися жизненных, профессиональных план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лияние технологических процессов на окружающую среду и здоровье челове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етоды технической, творческой, проектн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стория, перспективы и социальные последствия развития технологии и техни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23:33:56Z</dcterms:created>
  <dc:creator>Admin</dc:creator>
  <dc:description/>
  <dc:language>en-US</dc:language>
  <cp:lastModifiedBy>LEGION</cp:lastModifiedBy>
  <dcterms:modified xsi:type="dcterms:W3CDTF">2015-03-31T08:30:01Z</dcterms:modified>
  <cp:revision>40</cp:revision>
  <dc:subject/>
  <dc:title>ТЕХНОЛОГИЯ</dc:title>
</cp:coreProperties>
</file>